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8FB-718B-4B6B-B18D-510BA961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864-7C6A-4A68-A2D9-A3746BD1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C11-6B02-41A4-A995-3B74A3DB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D45A-8C39-49AA-A419-DF0596F2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9A1-8BCD-4D40-9279-F67A0145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727-514E-48C5-8B75-FBCF304B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DE2-9B81-4095-AC1F-BD970900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A31-DAE9-4FA0-A9A3-6F0EE8FC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102-48D1-40A4-B60D-303E3138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EF5-D822-4A1E-9F5F-BCBA6707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6BD-1AC3-4252-AAE0-90379A1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43B-1F9A-4798-AD29-93E97537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C686-3042-4092-B960-340EEF97A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400480" cy="47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-2773440" y="-747720"/>
          <a:ext cx="12457080" cy="60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773440" y="-747720"/>
                    <a:ext cx="1245708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19320" y="5105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52680" y="189000"/>
            <a:ext cx="19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M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00 kto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26200" y="5516640"/>
            <a:ext cx="254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LAC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 kton liquid ar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39280" y="3500280"/>
            <a:ext cx="19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0 kt scintil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797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1080" y="43657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7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916360" y="4941720"/>
          <a:ext cx="3311280" cy="171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4941720"/>
                    <a:ext cx="331128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5:41:24Z</dcterms:created>
  <dc:creator>Luigi Mosca</dc:creator>
  <dc:description/>
  <dc:language>en-US</dc:language>
  <cp:lastModifiedBy>csspier</cp:lastModifiedBy>
  <dcterms:modified xsi:type="dcterms:W3CDTF">2008-09-04T09:42:11Z</dcterms:modified>
  <cp:revision>9</cp:revision>
  <dc:subject/>
  <dc:title>Présentation PowerPoint</dc:title>
</cp:coreProperties>
</file>